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FB6E-ED07-4C47-84B5-02B597F2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8424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8920" y="4097160"/>
            <a:ext cx="8424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27E5-4AD1-47DA-BC23-AED1E55A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58920" y="409716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409716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B224-4DE6-4809-8951-88CA0031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82844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6280" y="182844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58920" y="409716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409716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6280" y="409716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96B-1C64-4B11-9AFD-30ABC9A9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58920" y="1828440"/>
            <a:ext cx="8424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8424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58920" y="914040"/>
            <a:ext cx="8424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58920" y="409716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58920" y="1828440"/>
            <a:ext cx="8424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D62-6F9E-4A85-B961-EBD672E45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409716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8920" y="4097160"/>
            <a:ext cx="8424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8424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8920" y="4097160"/>
            <a:ext cx="8424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58920" y="409716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409716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600" y="182844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6280" y="182844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58920" y="409716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600" y="409716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6280" y="4097160"/>
            <a:ext cx="271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8424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17A6-E6BF-4ABE-BBF1-1FA5200D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DD00-7DBE-419D-A89C-4554CDD17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ED7D-0994-4A7A-8FB1-7A7D1E6B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8920" y="914040"/>
            <a:ext cx="8424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D73-AC3D-45BC-9293-6A0A8ABD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8920" y="409716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35C6-7C8D-4356-B87F-6C69540A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409716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BAE-1561-4D26-BC18-3AC7359E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828440"/>
            <a:ext cx="41112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58920" y="4097160"/>
            <a:ext cx="84247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5532-478E-4DB6-B196-8B547AC6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master 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UM Neue Helvetica 55 Regular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8920" y="1828440"/>
            <a:ext cx="8424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2" marL="114300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4" marL="205740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56160" y="6481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79c1"/>
                </a:solidFill>
                <a:latin typeface="TUM Neue Helvetica 55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97F28-2B94-4D72-A3A0-BE65B33BB525}" type="datetime">
              <a:rPr b="0" lang="de-DE" sz="1200" spc="-1" strike="noStrike">
                <a:solidFill>
                  <a:srgbClr val="0079c1"/>
                </a:solidFill>
                <a:latin typeface="TUM Neue Helvetica 55 Regular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2560" y="6481440"/>
            <a:ext cx="6181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79c1"/>
                </a:solidFill>
                <a:latin typeface="TUM Neue Helvetica 55 Regular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79c1"/>
                </a:solidFill>
                <a:latin typeface="TUM Neue Helvetica 55 Regular"/>
              </a:rPr>
              <a:t>3D Ultrasound Mosaicing - Wachinger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84680" y="6481440"/>
            <a:ext cx="7066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79c1"/>
                </a:solidFill>
                <a:latin typeface="TUM Neue Helvetica 55 Regular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708A-B1A8-4094-8A16-0FB4824E6BDC}" type="slidenum">
              <a:rPr b="0" lang="de-DE" sz="1200" spc="-1" strike="noStrike">
                <a:solidFill>
                  <a:srgbClr val="0079c1"/>
                </a:solidFill>
                <a:latin typeface="TUM Neue Helvetica 55 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master b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UM Neue Helvetica 55 Regular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8920" y="1828440"/>
            <a:ext cx="8424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2" marL="114300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4" marL="2057400" indent="-22860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UM Neue Helvetica 55 Regular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8920" y="1827360"/>
            <a:ext cx="8424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33333"/>
                </a:solidFill>
                <a:latin typeface="TUM Neue Helvetica 55 Regular"/>
              </a:rPr>
              <a:t>A Magic Title for Your Talk</a:t>
            </a:r>
            <a:endParaRPr b="1" lang="en-US" sz="32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58920" y="3428640"/>
            <a:ext cx="8424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Your Name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3333"/>
                </a:solidFill>
                <a:latin typeface="TUM Neue Helvetica 55 Regular"/>
              </a:rPr>
              <a:t>Hauptseminar: Recent Advances in Computer Assisted Surgery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Computer Aided Medical Procedures (CAMP), </a:t>
            </a: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Technische Universität München, Germany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142920" y="6481800"/>
            <a:ext cx="6181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79c1"/>
                </a:solidFill>
                <a:latin typeface="TUM Neue Helvetica 55 Regular"/>
              </a:rPr>
              <a:t>Title - Name et 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8285040" y="6481800"/>
            <a:ext cx="70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4038-3FB4-4C7E-8364-7859C0AB5FC7}" type="slidenum">
              <a:rPr b="0" lang="de-DE" sz="1200" spc="-1" strike="noStrike">
                <a:solidFill>
                  <a:srgbClr val="0079c1"/>
                </a:solidFill>
                <a:latin typeface="TUM Neue Helvetica 55 Regular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8920" y="914040"/>
            <a:ext cx="84247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UM Neue Helvetica 55 Regular"/>
              </a:rPr>
              <a:t>Clinical Value of US Mosaicing</a:t>
            </a:r>
            <a:endParaRPr b="1" lang="en-US" sz="24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58920" y="1828440"/>
            <a:ext cx="8424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UM Neue Helvetica 55 Regular"/>
              </a:rPr>
              <a:t>Extended Field-of-View and Quality Improvement: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patial relationship among large structures – (Kim, 2003)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onographers have the flexibility to visualize anatomical structures from a variety of different angles – (Peetrons, 2002; Leung, 2005) 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ize and distance measurements of large organs – (Ying, 2005)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Individual structures within a broader context can be identified by having an image of the whole examination area – (Dietrich, 2002) 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  <a:p>
            <a:pPr marL="343080" indent="-343080">
              <a:spcBef>
                <a:spcPts val="451"/>
              </a:spcBef>
              <a:buClr>
                <a:srgbClr val="333333"/>
              </a:buClr>
              <a:buFont typeface="TUM Neue Helvetica 55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UM Neue Helvetica 55 Regular"/>
              </a:rPr>
              <a:t>Specialists not used to ultrasound can better understand the spatial relationships of anatomical  structures – (Henrich, ’03)</a:t>
            </a:r>
            <a:endParaRPr b="0" lang="en-US" sz="1800" spc="-1" strike="noStrike">
              <a:solidFill>
                <a:srgbClr val="333333"/>
              </a:solidFill>
              <a:latin typeface="TUM Neue Helvetica 55 Regular"/>
            </a:endParaRPr>
          </a:p>
        </p:txBody>
      </p:sp>
      <p:pic>
        <p:nvPicPr>
          <p:cNvPr id="87" name="Picture 4" descr="elev_3_max_2009"/>
          <p:cNvPicPr/>
          <p:nvPr/>
        </p:nvPicPr>
        <p:blipFill>
          <a:blip r:embed="rId1"/>
          <a:stretch/>
        </p:blipFill>
        <p:spPr>
          <a:xfrm>
            <a:off x="3263760" y="4970520"/>
            <a:ext cx="2022480" cy="131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elev_1_max_2009"/>
          <p:cNvPicPr/>
          <p:nvPr/>
        </p:nvPicPr>
        <p:blipFill>
          <a:blip r:embed="rId2"/>
          <a:stretch/>
        </p:blipFill>
        <p:spPr>
          <a:xfrm>
            <a:off x="811080" y="4970520"/>
            <a:ext cx="1641600" cy="1311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elev_2_max_2009"/>
          <p:cNvPicPr/>
          <p:nvPr/>
        </p:nvPicPr>
        <p:blipFill>
          <a:blip r:embed="rId3"/>
          <a:stretch/>
        </p:blipFill>
        <p:spPr>
          <a:xfrm>
            <a:off x="6099120" y="4970520"/>
            <a:ext cx="22338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bias Blum</cp:lastModifiedBy>
  <dcterms:modified xsi:type="dcterms:W3CDTF">2011-01-18T08:55:49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